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D11-1FCD-4C0A-A2D9-1B7BD9D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EF6-6558-4ADD-97F0-7E355D2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E1A-9D8D-45A4-BF5E-26CCD426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51A-87F4-40F1-8EA2-86D365E5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BD6-F567-4D87-A249-8AE3C33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227-86D2-429D-A5F7-E4025C6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3C5-2790-4134-9D87-EDDBA98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241-182C-4383-936A-838DEDD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6B5-0768-435A-BBCF-C65330C4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D8C-F319-49A7-87C2-B2DCE56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4A8-322B-4832-984D-C1E06A7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63F-05F4-474F-A269-DFFF5AB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DF5-5990-4005-94A9-768DBCD622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97A-12C3-415D-97F1-22391C4B0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R fitting(dppcxr.par) and density prof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334120" cy="401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38640" y="2209680"/>
            <a:ext cx="400536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008-DFF6-4E15-A54F-A45CFD81AA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4F264-8A5A-494A-A9EB-3AA9BB2C28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ith penetration decay(blue)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nd without(r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519200"/>
            <a:ext cx="6705720" cy="533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E44-00C2-48B3-9CBF-7C635E9997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996B1-FBFE-4983-9594-68BE5A2264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xos calculated from XR fitting parameters (Dppcgixos1.pa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124440" cy="233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5924520" cy="446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0FB-477B-417B-8135-574BE049A31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FA509-5B81-4454-804D-669CD0026A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.rrf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ht panel shows the ‘measured’ structure factor (generated from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495680" cy="344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5960" y="57913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9F6-D6DB-46C1-97A9-2EE3BC0A990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C937C-4E3E-4775-86AA-8D943B6C15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ried to fit the gixos data directly, slow and not go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EEE-6B42-4862-90AD-C7B3C792D5F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18622-CD17-4570-ADCA-80629AEDC6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ts correction needed to fit GIX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mall alpha condi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v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 S1v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(1pixel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v(2pix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650960"/>
            <a:ext cx="678168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86C-E787-412F-B66B-95670268FD3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7B008-42C4-49AB-A0A6-79E66BD55D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ter gixos fitting using corrected resolution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2065320"/>
            <a:ext cx="6019560" cy="479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2743200"/>
            <a:ext cx="990720" cy="1447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124080"/>
            <a:ext cx="685800" cy="762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>
              <a:alpha val="57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048120"/>
            <a:ext cx="1371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not reach the maxim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53C-92C2-4D9F-9808-6DD9F7F34C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B2E02-8281-4410-92CC-D83478032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419720" cy="334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91120" y="2416320"/>
            <a:ext cx="4952880" cy="378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correction check for other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mall alph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v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S1v,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76100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rrection, the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n fit the beta scan and K-scan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? Effective footpr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160" y="41511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K-scan #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3840" y="62625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eta scan #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9A9-1F77-43A0-97E6-9FFCB4FA9ED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61C8B-2474-4AC5-B7F2-4DE721051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334120" cy="40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68680" y="50655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PC beta scan #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5BB-BADA-40EC-A663-27BB1C3463D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6A1A3-67DE-499B-BBDE-13BD846119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876920" cy="374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05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et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CF0-B814-4854-A9BB-4E7E65D8C19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D33CB-0297-41B6-9895-79E25B9C9D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7T19:19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